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228240" y="228240"/>
            <a:ext cx="4419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4800240" y="0"/>
            <a:ext cx="205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533160"/>
            <a:ext cx="457200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457200" y="4038480"/>
            <a:ext cx="6019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8763120"/>
            <a:ext cx="4114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4343040" y="8763120"/>
            <a:ext cx="251316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38BC-B5C5-4960-9C2C-C6ECD59B0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343040" y="8763120"/>
            <a:ext cx="251316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7A68-AD84-4800-90DF-2705C8072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8763120"/>
            <a:ext cx="4114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28240" y="228240"/>
            <a:ext cx="4419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800240" y="0"/>
            <a:ext cx="205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4038480"/>
            <a:ext cx="6019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et of demos extends the lab manual and includes experiments investigating the algorithms for scheduling and process/thread control implemented inside the Windows operating system. Demos are short experiments to be included in the lecture by the instru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96C44-83B3-4CC1-8BC6-83BD41C8BF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708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CAB04-40E1-425E-A222-6258ECEAB1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08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708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B7D28-819C-4A6B-8D0F-9D078BC337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708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708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708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AFB69-A921-42B8-B993-AD75CB0AC2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708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7F0DC-AA34-41B7-92ED-DC94E4610B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708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708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708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708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708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708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708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708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38278-632E-4CE0-8949-C265C9D6A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1AA2A-C54F-4DF2-8688-47665B4CDF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C80A6-827E-40FA-A4E5-C8D2911866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98676-8BBB-46C3-AD5D-26B618E377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708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F19F7-7423-4FA4-84C6-CAB20A040E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708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1A761-2356-40BD-8503-D88FA1FE4D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08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B74CF-4A09-4F2C-8733-B77C5EC5B9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075040" indent="-27648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456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6312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8EAA-2046-4E6C-BAA8-A42C57E304EE}" type="slidenum">
              <a:rPr b="0" lang="en-US" sz="1200" spc="-1" strike="noStrike">
                <a:solidFill>
                  <a:srgbClr val="fe99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93400" y="2282760"/>
            <a:ext cx="721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304560" y="662580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343080" algn="ctr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42696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50652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computername/" TargetMode="External"/><Relationship Id="rId2" Type="http://schemas.openxmlformats.org/officeDocument/2006/relationships/hyperlink" Target="file://computer/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oleObject" Target="../embeddings/oleObject1.bin"/><Relationship Id="rId16" Type="http://schemas.openxmlformats.org/officeDocument/2006/relationships/image" Target="../media/image5.png"/><Relationship Id="rId1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93760" y="2282760"/>
            <a:ext cx="7569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Unit OS4: Scheduling and Dispatch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91960" y="4006800"/>
            <a:ext cx="719748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6. De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Windows Operating System Internals - by David A. Solomon and Mark E. Russinovich with Andreas Polz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rocess Explorer Lab: Column Selection And Usernam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ice additional details show for each process (icon, descrip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on View-&gt;Select Colum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username colum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username column in Task Manager with Process Explorer – what is the differen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elect View-&gt;Show Processes From All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3D953-3FE1-480C-A644-C5E8059724A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rocess Explorer Lab: Command Lin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uble click on date/time in task bar (lower right of scre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Process Explorer, hit F5 to refre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new process created (RUNDLL32.EX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ine command line arg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cmd.exe process was consuming lots of CPU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and line argument showed which .BAT file was r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E519A-C570-4AB5-8A5D-8362181E53A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xamining CPU Tim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77640" y="1414440"/>
            <a:ext cx="396540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process properties and look at CPU usage history on the performance graph p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ver the mouse over a point to see the time of that va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572000" y="1219320"/>
            <a:ext cx="3978360" cy="480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818A5-711B-4F4A-8F55-D3037E6E9C6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rocess Explorer Lab:</a:t>
            </a:r>
            <a:br>
              <a:rPr sz="4000"/>
            </a:b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nvironment Variabl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a command prom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 Notepadexe from command prom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“set  abc=xyz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ProcExp, hit F5 and examine environment variables for Cmd.exe and Notepad.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ice Notepad.exe does not know about the environment variable ab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80848-D308-493D-8C80-1605394402F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ecurit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435640" y="1482840"/>
            <a:ext cx="3606840" cy="3887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8440" y="1212840"/>
            <a:ext cx="4789800" cy="51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9920" indent="-3499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Security tab of process proper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920" indent="-3499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rest of access token (username is on image ta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oups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96520" indent="-264240"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ludes OS-assigned grou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vileges (user righ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96520" indent="-264240"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abled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96520" indent="-264240"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grams turn these on when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9920" indent="-3499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really a “Resultant Set of Groups” and “Resultant Set of Privileges”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5024F-BB69-4364-881F-E83D99F15F6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258480"/>
            <a:ext cx="894564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.NET Information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41972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Explorer is aware of .NET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highlight with Options-&gt;Highlight .NET Proc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properties have .NET t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ws details about .NET process (CLR, Appdomai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also add .NET-specific columns to process 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4724280" y="4419720"/>
            <a:ext cx="4067280" cy="2305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7"/>
          <a:stretch/>
        </p:blipFill>
        <p:spPr>
          <a:xfrm>
            <a:off x="5254560" y="990720"/>
            <a:ext cx="3441600" cy="373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3252C-394D-4B41-8953-56A863BE654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indows Statu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20840" y="10746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really like Task Manager’s Applications tab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the Window Title colum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the Window Status colum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s the same Windows function as Task Manager to determine 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306360" y="3833640"/>
            <a:ext cx="4452840" cy="11541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1808280" y="5118120"/>
            <a:ext cx="5562360" cy="125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8FAEE-5197-4C17-BC22-FBBF61196CC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ab: Window Process Finde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39560" y="133344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Window process finder toolbar button to identify the owner of a wind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457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 Regedit and modify HKLM\System\CurrentControlSet\Control\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Options\ProductTy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457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 the window process finder target over the resulting popup to see what process owns the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76A22-2F80-483E-AE7E-F90588968A3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S Tool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147680"/>
            <a:ext cx="8763120" cy="47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of 12 process/system control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’d the “Ps” come fro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UNIX process listing tool i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d “p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irst PsTool was a UNIX “ps”-equivalent, Ps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l work on Windows NT4/2000/XP/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l work remotely as well as loc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ire admin rights to remot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specify credentials with “-u” swit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e require manual remote software insta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5FD7A-D6EC-4FB3-815C-B7E40F34625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S Tool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file – lists &amp; closes remote file ope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shutdown – remote shutdown, lock workstation, log off us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exec – run an app on a remot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list – list processes &amp; threa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uptime – system up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info – display general system 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getsid – displays computer or user S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service – service process control (like SC in X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loglist – dumps event log in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Suspend – suspend a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Kill – kill proc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loggedon – lists local and remote logon sess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password – change local/remote passwo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60607-8240-4F34-AB88-2E7EE426ED3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opyright Notice</a:t>
            </a:r>
            <a:br>
              <a:rPr sz="4000"/>
            </a:br>
            <a:r>
              <a:rPr b="0" lang="en-US" sz="1800" spc="-1" strike="noStrike">
                <a:solidFill>
                  <a:srgbClr val="fe9900"/>
                </a:solidFill>
                <a:latin typeface="Arial"/>
              </a:rPr>
              <a:t>© 2000-2005 David A. Solomon and Mark Russinovich</a:t>
            </a:r>
            <a:endParaRPr b="0" lang="en-US" sz="18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aterials are part of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indows Operating System Internals Curriculum Development Kit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veloped by David A. Solomon and Mark E. Russinovich with Andreas Pol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has licensed these materials from David Solomon Expert Seminars, Inc. for distribution to academic organizations solely for use in academic environments (and not for commercial u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6AD18-7BB7-4B55-8B7B-6959FE9C21A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sKill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5788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erfect complement to PsLis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PsK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 to Resource Kit Kill and Remote K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a process running on a remote (or local) system with PsList, kill it with PsK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like Task Manager, PsKill lets you kill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rocess if you’re an adm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s “Debug” privile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auto-installed remote service and TerminateProcess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E122A-8265-4760-96F5-60D5B577A9C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sList/PsKill Lab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9640" y="1053720"/>
            <a:ext cx="838836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 a command prom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 Pslist on your 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list  -t       (tree vie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list  -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(autorefres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at process list on your neighbor’s 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list  </a:t>
            </a:r>
            <a:r>
              <a:rPr b="0" lang="en-US" sz="2000" spc="-1" strike="noStrike" u="sng">
                <a:solidFill>
                  <a:srgbClr val="99cc66"/>
                </a:solidFill>
                <a:uFillTx/>
                <a:latin typeface="Arial"/>
                <a:hlinkClick r:id="rId1"/>
              </a:rPr>
              <a:t>\\computer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ll Explorer.exe on your neighbor’s works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kill </a:t>
            </a:r>
            <a:r>
              <a:rPr b="0" lang="en-US" sz="2000" spc="-1" strike="noStrike" u="sng">
                <a:solidFill>
                  <a:srgbClr val="99cc66"/>
                </a:solidFill>
                <a:uFillTx/>
                <a:latin typeface="Arial"/>
                <a:hlinkClick r:id="rId2"/>
              </a:rPr>
              <a:t>\\comput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xplorer.ex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0F667-33FE-45B3-990D-98F8E9C66A1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sExec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414440"/>
            <a:ext cx="85788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tely execute pro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938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es console programs interactiv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938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ows you to start programs as yourself , in alternate user credentials, or in the System ac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PsExec you ca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938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unch a remote command prompt to effect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light-weight tel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938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ote-enable “local only” command-line tool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 IpConf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s auto-installed remote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A5F5B-7661-499A-A77F-DA0BB5EF0EB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9900"/>
                </a:solidFill>
                <a:latin typeface="Arial"/>
              </a:rPr>
              <a:t>PsExec Lab</a:t>
            </a:r>
            <a:endParaRPr b="0" lang="en-US" sz="44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0080" y="1484280"/>
            <a:ext cx="8953560" cy="33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 a command prom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 Regedit under System account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exec  -s   -i   c:\windows\regedit.ex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 Notepad interactively on another workstation (or to yourself if not on a network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62360" indent="-5119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exec -i  \\computer notepad.ex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62360" indent="-5119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d the Notepad process you created by examining the process tree with pslist on the remot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27760" indent="-438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parent service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09523-0203-45EB-9566-935C6F5A2F3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rocess/Thread Kernel Debugger Command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!process [/s Session] [Address/Pid [Flags]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process – display current process (not full detail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process 342 – display full details of process 34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process 829fa030 – display process identified by EPROCESS addr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process 0 0 – summary display of all proces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process 0 7 – full details of all proces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!thread [Address [Flags]]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thread – current thre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thread 826e8898 – display thread identified by ETHREAD addr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view user stack, must set process contex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process &lt;address of EPROCESS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context &lt;address of page directory (Dirbase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!peb [Address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!teb [Address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2BCAD-E01C-49C8-978F-129EC62D89A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Dumping Structures with Kernel Debugge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t” (“Display Type”) command can format most kernel struc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ntax: “dt StructureName address –r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t nt!_* - displays all OS structures known to d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relies on type information in symbol fi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blic symbols have this for XP, Windows Server 2003, and Windows 2000 SP4 and la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/thread-related structu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!_E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!_ETHRE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!_PE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!_TE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!_TOK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!_JO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A2551-6B05-4600-AC91-0740F03B673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atching the Scheduler</a:t>
            </a:r>
            <a:br>
              <a:rPr sz="4000"/>
            </a:br>
            <a:r>
              <a:rPr b="0" lang="en-US" sz="3200" spc="-1" strike="noStrike">
                <a:solidFill>
                  <a:srgbClr val="fe9900"/>
                </a:solidFill>
                <a:latin typeface="Arial"/>
              </a:rPr>
              <a:t>Performance Monitor - Threads Object</a:t>
            </a:r>
            <a:endParaRPr b="0" lang="en-US" sz="3200" spc="-1" strike="noStrike">
              <a:solidFill>
                <a:srgbClr val="fe99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6564240" cy="43434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165280" y="5410080"/>
            <a:ext cx="3993480" cy="945000"/>
          </a:xfrm>
          <a:prstGeom prst="rect">
            <a:avLst/>
          </a:prstGeom>
          <a:solidFill>
            <a:srgbClr val="004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creen snapshot from: Programs | Admin. Tool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| Performance Monitor   select “Add to Chart”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 Object: Thread.  use Ctrl-leftClick to selec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ultiple items in a selection bo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0673D-D67B-475E-B225-2895F7BDAEE2}" type="slidenum">
              <a:t>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oadmap for Section 4.6.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s invesitgat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Explorer and Thread 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Tools for gathering process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rnel debugger !process and !thr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70671-F957-48B3-8D1A-CCF36025FAB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ab:  Refresh Highlight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38836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update speed to paused by pressing space b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 Notep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ProcExp, hit F5 and notice new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t Notep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ProcExp, hit F5 and notice Notepad in 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48132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derstanding process startup sequ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48132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cting appearance of processes coming and go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A7A50-1469-4648-BD0E-E0F189B1CE9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3680" y="220320"/>
            <a:ext cx="8069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all Stack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88484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Explorer can also show the thread call st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resents sequence of functions cal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ant if start address doesn’t indicate what the thread i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 if it’s a generic library start 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67320" y="3305160"/>
            <a:ext cx="2736720" cy="72072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46600" y="1938240"/>
            <a:ext cx="2736720" cy="720720"/>
          </a:xfrm>
          <a:prstGeom prst="rect">
            <a:avLst/>
          </a:prstGeom>
          <a:gradFill rotWithShape="0">
            <a:gsLst>
              <a:gs pos="0">
                <a:srgbClr val="2f5e75"/>
              </a:gs>
              <a:gs pos="100000">
                <a:srgbClr val="66ccff"/>
              </a:gs>
            </a:gsLst>
            <a:lin ang="5400000"/>
          </a:gra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59680" y="4673520"/>
            <a:ext cx="2736720" cy="720720"/>
          </a:xfrm>
          <a:prstGeom prst="rect">
            <a:avLst/>
          </a:prstGeom>
          <a:gradFill rotWithShape="0">
            <a:gsLst>
              <a:gs pos="0">
                <a:srgbClr val="5e4675"/>
              </a:gs>
              <a:gs pos="100000">
                <a:srgbClr val="cc99ff"/>
              </a:gs>
            </a:gsLst>
            <a:lin ang="5400000"/>
          </a:gradFill>
          <a:ln w="1260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70600" y="2657520"/>
            <a:ext cx="792000" cy="647640"/>
          </a:xfrm>
          <a:custGeom>
            <a:avLst/>
            <a:gdLst/>
            <a:ahLst/>
            <a:rect l="l" t="t" r="r" b="b"/>
            <a:pathLst>
              <a:path w="816" h="408">
                <a:moveTo>
                  <a:pt x="0" y="0"/>
                </a:moveTo>
                <a:cubicBezTo>
                  <a:pt x="15" y="91"/>
                  <a:pt x="30" y="182"/>
                  <a:pt x="136" y="227"/>
                </a:cubicBezTo>
                <a:cubicBezTo>
                  <a:pt x="242" y="272"/>
                  <a:pt x="522" y="242"/>
                  <a:pt x="635" y="272"/>
                </a:cubicBezTo>
                <a:cubicBezTo>
                  <a:pt x="748" y="302"/>
                  <a:pt x="782" y="355"/>
                  <a:pt x="816" y="408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56480" y="4025880"/>
            <a:ext cx="792000" cy="647640"/>
          </a:xfrm>
          <a:custGeom>
            <a:avLst/>
            <a:gdLst/>
            <a:ahLst/>
            <a:rect l="l" t="t" r="r" b="b"/>
            <a:pathLst>
              <a:path w="816" h="408">
                <a:moveTo>
                  <a:pt x="0" y="0"/>
                </a:moveTo>
                <a:cubicBezTo>
                  <a:pt x="15" y="91"/>
                  <a:pt x="30" y="182"/>
                  <a:pt x="136" y="227"/>
                </a:cubicBezTo>
                <a:cubicBezTo>
                  <a:pt x="242" y="272"/>
                  <a:pt x="522" y="242"/>
                  <a:pt x="635" y="272"/>
                </a:cubicBezTo>
                <a:cubicBezTo>
                  <a:pt x="748" y="302"/>
                  <a:pt x="782" y="355"/>
                  <a:pt x="816" y="408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A8EDC-D456-44EE-92DE-8918C573954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all Stack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8243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Stack to view call st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sts functions in reverse chronological 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e that start address on Threads tab is different than first function shown in st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because all user threads start in a Windows library function which calls the programmed start add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5076720" y="4157640"/>
            <a:ext cx="3333960" cy="2371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5029200" y="301680"/>
            <a:ext cx="3376440" cy="3646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>
            <a:off x="5500440" y="3357720"/>
            <a:ext cx="2128680" cy="8874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EE594-C7F9-421B-9AFD-116A84294EE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xample: Viewing Stack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0440" y="1530000"/>
            <a:ext cx="8074080" cy="38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: Powerpoint was hanging for 1 minute on start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ad stack shows waiting on a printer d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362320" y="3200400"/>
            <a:ext cx="4572000" cy="3200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438280" y="4848120"/>
            <a:ext cx="3048120" cy="577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679BC-C8AA-4608-AFCA-DE7F7151647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uspending Process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8000" y="1417680"/>
            <a:ext cx="8388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Explorer can suspend a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would you want to do thi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’ve started a long running job but want to pause it to do something 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ering the priority still leaves it running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’ve started a long download but want to have your network bandwidth temporar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multi-service system process activity is due to other processes calling upon their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spend a process that is consuming CPU time to see what that does to the system process in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17E2C-43DE-4210-AAF2-D0250B54B21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Lab: Suspend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417680"/>
            <a:ext cx="861084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3120" indent="-573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 Notep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3120" indent="-573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a command promp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8080" indent="-53352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pend Notepad process with Process Explor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8080" indent="-53352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 to switch back to Notepad (should not respon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8080" indent="-53352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 Task Manager and look at Notepad’s status in the applications ta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8080" indent="-53352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me Notep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9387B-102D-4FA8-830B-7E9207AA4A2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14:36:48Z</dcterms:created>
  <dc:creator>David A. Solomon, Mark E. Russinovich, and Andreas Polze</dc:creator>
  <dc:description/>
  <dc:language>en-US</dc:language>
  <cp:lastModifiedBy>Andreas Polze</cp:lastModifiedBy>
  <cp:lastPrinted>2005-06-05T20:22:41Z</cp:lastPrinted>
  <dcterms:modified xsi:type="dcterms:W3CDTF">2005-06-30T21:30:11Z</dcterms:modified>
  <cp:revision>45</cp:revision>
  <dc:subject>Windows Operating Systems Internals Course</dc:subject>
  <dc:title>Unit OS4: Demos</dc:title>
</cp:coreProperties>
</file>